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468-9858-4DD1-A931-D5102B7E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54E-7FB5-400B-AEF8-4987F59D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AA6-6A36-4284-A567-13718A4A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DDB-293C-4E20-979F-4F0D1A96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C4C-1D42-4489-AE56-F7AD863F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C49-7EFE-49D1-B8B3-CDB798C7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E08-929F-4487-9980-99A1114A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1D4-2731-4269-893F-E07DD56D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C63-E538-4F58-9E95-9B6FD49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D33-24B4-4F90-A9A5-2F02629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291-6920-4E9B-9880-AA5D71D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D3D-0532-4C35-BC79-3A3A7A2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3847-B9EB-4FDC-BEE2-EEDA9504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924280"/>
            <a:ext cx="6192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1" lang="en-NZ" sz="60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unction = </a:t>
            </a:r>
            <a:r>
              <a:rPr b="1" lang="en-NZ" sz="6000" spc="-1" strike="noStrike">
                <a:solidFill>
                  <a:srgbClr val="008000"/>
                </a:solidFill>
                <a:latin typeface="Arial"/>
              </a:rPr>
              <a:t>j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1" lang="en-NZ" sz="4000" spc="-1" strike="noStrike">
                <a:solidFill>
                  <a:srgbClr val="008000"/>
                </a:solidFill>
                <a:latin typeface="Arial"/>
              </a:rPr>
              <a:t>junctio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where roads jo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jo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484280"/>
            <a:ext cx="6119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,  but,  however,  yet,  or,  because,  althou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Joining parts of sentence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39:45Z</dcterms:modified>
  <cp:revision>27</cp:revision>
  <dc:subject/>
  <dc:title>Simile</dc:title>
</cp:coreProperties>
</file>